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0F2-CD32-4040-BE4B-0D739508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95F-95A4-4403-95EC-72DAE8D0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3DA-2325-4DE6-AB5C-4DDA487F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E98-224D-41B3-B65E-64E3B144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EA1-19FB-4B82-AE81-DC034ED5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158-4D7B-4BDF-8C03-8C49A1F8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0C8-008C-41E5-822F-A0EF5F40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8D3-C84E-4F88-83F2-B1EE2E30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8E4-B7D8-4A2D-8C72-439D7C3A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19B-C474-4367-B16A-A15B391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655-AF51-4FD1-9B4A-9B6E52A7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646-EC38-4067-9C83-E52028E4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18D5-6B6D-4BB4-8D97-880B04E2A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9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59560" y="1739880"/>
            <a:ext cx="374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Spirit of the Living Go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all afresh on 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Spirit of the living Go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Fall afresh on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Fill me ane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Fill me a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Spirit of the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Fall afresh on me.</a:t>
            </a:r>
            <a:r>
              <a:rPr b="1" lang="pl-PL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9:02:36Z</dcterms:created>
  <dc:creator>TrifonTrifonow</dc:creator>
  <dc:description/>
  <dc:language>en-US</dc:language>
  <cp:lastModifiedBy>TrifonTrifonow</cp:lastModifiedBy>
  <dcterms:modified xsi:type="dcterms:W3CDTF">2005-12-28T06:08:37Z</dcterms:modified>
  <cp:revision>3</cp:revision>
  <dc:subject/>
  <dc:title>Slide 1</dc:title>
</cp:coreProperties>
</file>